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gif" ContentType="image/gif"/>
  <Override PartName="/ppt/media/image2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A6665-2E19-471E-A717-72D3ACF777F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6CE04-1D29-4ABC-92E8-782C1160CB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841-C359-4DAC-B43C-D628FF52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54E-9C2A-4DC0-BEF4-D61679A1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A100-C48E-46CC-AF4B-288ED56C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454-1B07-49B2-9AF4-91C01A16A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F10-9D9B-4AF8-9147-F21920FB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A9FA-6D33-4C1C-9299-F4E05C0A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32A-FB54-4753-B3EA-37E755A4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3F8-E458-4479-9F8D-A409CB3C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1E1C-7836-49DD-B928-1C12CB98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B811-E7F8-4219-9025-44CBA4C5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3BD-D088-4CE1-8494-4E430A70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01C-A8B5-4004-9699-EB56DBA8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74BA6C-4C35-44D4-A32B-F40CA3D7E7D1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63600" y="2328840"/>
            <a:ext cx="5072400" cy="30718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162160" y="905040"/>
            <a:ext cx="4819680" cy="1180800"/>
            <a:chOff x="2162160" y="905040"/>
            <a:chExt cx="4819680" cy="1180800"/>
          </a:xfrm>
        </p:grpSpPr>
        <p:sp>
          <p:nvSpPr>
            <p:cNvPr id="65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唐僧取经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221920" y="9849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30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画出老人的话，这句话写出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1039680" y="2793960"/>
            <a:ext cx="741708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句子：“这条路太难走了，又是沙漠，又是雪山，你可千万别拿生命冒险哪！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写出了取经路上困难重重，且有生命危险，也表现出玄奘意志的坚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玄奘在沙漠遇到了什么困难？是怎么解决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1230480" y="2625840"/>
            <a:ext cx="70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7192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玄奘在沙漠中遇到了没有水的困难，差一点就渴死。当他被凉风吹醒，爬上马背时，老马驮着他找到了沙漠中的清泉，玄奘才得以活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内容占位符 2"/>
          <p:cNvSpPr/>
          <p:nvPr/>
        </p:nvSpPr>
        <p:spPr>
          <a:xfrm>
            <a:off x="790560" y="12841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是采用哪两种写法来表现玄奘取经的困难的？这样写有什么好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1198440" y="2419200"/>
            <a:ext cx="72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53172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写取经路上的困难采用了两种方法：一种是间接描写，用老人的话来说明困难之大；一种是直接描写，通过玄奘的亲身经历来表现。这样写就能从多方面来表现困难之大，使写法多样，同时对玄奘取经的决心之大有了更多方面的表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26"/>
          <p:cNvSpPr/>
          <p:nvPr/>
        </p:nvSpPr>
        <p:spPr>
          <a:xfrm>
            <a:off x="583200" y="237672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唐僧取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1487520" y="2077920"/>
            <a:ext cx="132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万里征途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左大括号 6"/>
          <p:cNvSpPr/>
          <p:nvPr/>
        </p:nvSpPr>
        <p:spPr>
          <a:xfrm>
            <a:off x="1285920" y="2133720"/>
            <a:ext cx="312840" cy="3360600"/>
          </a:xfrm>
          <a:custGeom>
            <a:avLst/>
            <a:gdLst>
              <a:gd name="textAreaLeft" fmla="*/ 199800 w 312840"/>
              <a:gd name="textAreaRight" fmla="*/ 313200 w 312840"/>
              <a:gd name="textAreaTop" fmla="*/ 7920 h 3360600"/>
              <a:gd name="textAreaBottom" fmla="*/ 3352680 h 33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4"/>
                  <a:pt x="10800" y="167"/>
                </a:cubicBezTo>
                <a:lnTo>
                  <a:pt x="10800" y="10633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4"/>
                  <a:pt x="10800" y="10967"/>
                </a:cubicBezTo>
                <a:lnTo>
                  <a:pt x="10800" y="21433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左大括号 24"/>
          <p:cNvSpPr/>
          <p:nvPr/>
        </p:nvSpPr>
        <p:spPr>
          <a:xfrm flipH="1">
            <a:off x="4787280" y="2206800"/>
            <a:ext cx="199800" cy="3222360"/>
          </a:xfrm>
          <a:custGeom>
            <a:avLst/>
            <a:gdLst>
              <a:gd name="textAreaLeft" fmla="*/ 127800 w 199800"/>
              <a:gd name="textAreaRight" fmla="*/ 200160 w 199800"/>
              <a:gd name="textAreaTop" fmla="*/ 5040 h 3222360"/>
              <a:gd name="textAreaBottom" fmla="*/ 3217320 h 322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6"/>
                  <a:pt x="10800" y="112"/>
                </a:cubicBezTo>
                <a:lnTo>
                  <a:pt x="10800" y="10688"/>
                </a:lnTo>
                <a:cubicBezTo>
                  <a:pt x="10800" y="10744"/>
                  <a:pt x="5400" y="10800"/>
                  <a:pt x="0" y="10800"/>
                </a:cubicBezTo>
                <a:cubicBezTo>
                  <a:pt x="5400" y="10800"/>
                  <a:pt x="10800" y="10856"/>
                  <a:pt x="10800" y="10912"/>
                </a:cubicBezTo>
                <a:lnTo>
                  <a:pt x="10800" y="21488"/>
                </a:lnTo>
                <a:cubicBezTo>
                  <a:pt x="10800" y="2154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2616120" y="2090880"/>
            <a:ext cx="188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毅然踏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8"/>
          <p:cNvSpPr/>
          <p:nvPr/>
        </p:nvSpPr>
        <p:spPr>
          <a:xfrm>
            <a:off x="2714760" y="5060880"/>
            <a:ext cx="207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成为高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9"/>
          <p:cNvSpPr/>
          <p:nvPr/>
        </p:nvSpPr>
        <p:spPr>
          <a:xfrm>
            <a:off x="1724400" y="506088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终于到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0"/>
          <p:cNvSpPr/>
          <p:nvPr/>
        </p:nvSpPr>
        <p:spPr>
          <a:xfrm>
            <a:off x="1695960" y="312264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老人劝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26"/>
          <p:cNvSpPr/>
          <p:nvPr/>
        </p:nvSpPr>
        <p:spPr>
          <a:xfrm>
            <a:off x="5358600" y="31561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不畏艰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坚忍不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2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3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矩形 18"/>
          <p:cNvSpPr/>
          <p:nvPr/>
        </p:nvSpPr>
        <p:spPr>
          <a:xfrm>
            <a:off x="2597040" y="3168720"/>
            <a:ext cx="188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绝不动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19"/>
          <p:cNvSpPr/>
          <p:nvPr/>
        </p:nvSpPr>
        <p:spPr>
          <a:xfrm>
            <a:off x="1720440" y="420516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历经艰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0"/>
          <p:cNvSpPr/>
          <p:nvPr/>
        </p:nvSpPr>
        <p:spPr>
          <a:xfrm>
            <a:off x="2611440" y="4221000"/>
            <a:ext cx="2378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沙漠  干渴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内容占位符 2"/>
          <p:cNvSpPr/>
          <p:nvPr/>
        </p:nvSpPr>
        <p:spPr>
          <a:xfrm>
            <a:off x="934920" y="218124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记叙了唐僧为了研究佛经，不远万里去印度取经，途中历尽艰难，终于成为很有学问的高僧的故事，赞扬了他不畏艰险、矢志不渝的精神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1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5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6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内容占位符 2"/>
          <p:cNvSpPr/>
          <p:nvPr/>
        </p:nvSpPr>
        <p:spPr>
          <a:xfrm>
            <a:off x="996840" y="1828800"/>
            <a:ext cx="73962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小河蚌的故事</a:t>
            </a:r>
            <a:r>
              <a:rPr b="1" lang="zh-CN" sz="20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一道河湾里，老河蚌对小河蚌们说：“你们不能光顾着玩儿，该去捡一粒沙子了。”小河蚌们听了纷纷去捡沙子，埋进自己体内。可有一只小河蚌没有听老河蚌的话，照样整天贪玩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日子一天天过去了，小河蚌们长大了，它们纷纷打开自己的蚌壳，里面竟然藏着一颗颗珍珠。那是体内的小沙子经过岁月的磨砺变成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而整天贪玩的河蚌，却什么也没得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"/>
          <p:cNvPicPr/>
          <p:nvPr/>
        </p:nvPicPr>
        <p:blipFill>
          <a:blip r:embed="rId1"/>
          <a:stretch/>
        </p:blipFill>
        <p:spPr>
          <a:xfrm>
            <a:off x="1042920" y="2125800"/>
            <a:ext cx="7234200" cy="3760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1"/>
          <p:cNvSpPr/>
          <p:nvPr/>
        </p:nvSpPr>
        <p:spPr>
          <a:xfrm>
            <a:off x="1042920" y="2730600"/>
            <a:ext cx="7234200" cy="22885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骥伏枥，志在千里。烈士暮年，壮心不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龟虽寿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曹操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千磨万击还坚劲，任尔东西南北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题竹石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郑燮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3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1"/>
          <p:cNvSpPr/>
          <p:nvPr/>
        </p:nvSpPr>
        <p:spPr>
          <a:xfrm>
            <a:off x="1517040" y="1677960"/>
            <a:ext cx="18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关于唐僧的谚语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2"/>
          <p:cNvSpPr/>
          <p:nvPr/>
        </p:nvSpPr>
        <p:spPr>
          <a:xfrm>
            <a:off x="1265400" y="2112840"/>
            <a:ext cx="7397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唐僧的龙马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腾云驾雾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唐僧的心胸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慈悲为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唐僧的眼睛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不认识好坏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唐僧取经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千辛万苦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唐僧遇见白骨精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敌我不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唐僧念紧箍咒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痛苦在后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猴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组合 6"/>
          <p:cNvGrpSpPr/>
          <p:nvPr/>
        </p:nvGrpSpPr>
        <p:grpSpPr>
          <a:xfrm>
            <a:off x="301680" y="998640"/>
            <a:ext cx="3849480" cy="666720"/>
            <a:chOff x="301680" y="998640"/>
            <a:chExt cx="3849480" cy="666720"/>
          </a:xfrm>
        </p:grpSpPr>
        <p:sp>
          <p:nvSpPr>
            <p:cNvPr id="149" name="圆角矩形 7"/>
            <p:cNvSpPr/>
            <p:nvPr/>
          </p:nvSpPr>
          <p:spPr>
            <a:xfrm>
              <a:off x="1117440" y="1136520"/>
              <a:ext cx="303372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文本框 16"/>
            <p:cNvSpPr/>
            <p:nvPr/>
          </p:nvSpPr>
          <p:spPr>
            <a:xfrm>
              <a:off x="1376640" y="115560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301680" y="99864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1"/>
          <p:cNvSpPr/>
          <p:nvPr/>
        </p:nvSpPr>
        <p:spPr>
          <a:xfrm>
            <a:off x="1376280" y="167796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西游记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2"/>
          <p:cNvSpPr/>
          <p:nvPr/>
        </p:nvSpPr>
        <p:spPr>
          <a:xfrm>
            <a:off x="1265400" y="2112840"/>
            <a:ext cx="739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国古典四大名著之一，明吴承恩撰。此书描写的是孙悟空、猪八戒、沙和尚保护唐僧西天取经、历经九九八十一难的传奇历险故事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1"/>
          <p:cNvSpPr/>
          <p:nvPr/>
        </p:nvSpPr>
        <p:spPr>
          <a:xfrm>
            <a:off x="1422000" y="4092480"/>
            <a:ext cx="16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孙悟空的故事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2"/>
          <p:cNvSpPr/>
          <p:nvPr/>
        </p:nvSpPr>
        <p:spPr>
          <a:xfrm>
            <a:off x="1209600" y="4554360"/>
            <a:ext cx="739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闹天宫、三借芭蕉扇、火烧盘丝洞、三打白骨精、真假孙悟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1580400" y="244800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中国古代四大盛世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2"/>
          <p:cNvSpPr/>
          <p:nvPr/>
        </p:nvSpPr>
        <p:spPr>
          <a:xfrm>
            <a:off x="1265400" y="3090960"/>
            <a:ext cx="73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汉代文景盛世、唐代开元盛世、明代永宣盛世、清代康乾盛世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11080" y="287820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理解课文内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9" name="矩形 11"/>
          <p:cNvSpPr/>
          <p:nvPr/>
        </p:nvSpPr>
        <p:spPr>
          <a:xfrm>
            <a:off x="1017720" y="22683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文运用直接和间接描写相结合的方法，并采用典型事例的方法，叙了唐僧为了研究佛经，不远万里去印度取经，途中历尽艰难，终于成为很有学问的高僧的故事，赞扬了他不畏艰险、矢志不渝的精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2"/>
          <p:cNvSpPr/>
          <p:nvPr/>
        </p:nvSpPr>
        <p:spPr>
          <a:xfrm>
            <a:off x="1203480" y="2247840"/>
            <a:ext cx="72104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点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先要了解课文内容，从文中感受玄奘去印度取经的坚定决心，想象玄奘经历的艰难险阻，体会玄奘不畏艰难、执着的精神。在读第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自然段玄奘的困难处境时，语速要慢，表现出他的艰难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sp>
        <p:nvSpPr>
          <p:cNvPr id="162" name="矩形 12"/>
          <p:cNvSpPr/>
          <p:nvPr/>
        </p:nvSpPr>
        <p:spPr>
          <a:xfrm>
            <a:off x="900000" y="1631880"/>
            <a:ext cx="704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朗读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7"/>
          <p:cNvSpPr/>
          <p:nvPr/>
        </p:nvSpPr>
        <p:spPr>
          <a:xfrm>
            <a:off x="641520" y="1325520"/>
            <a:ext cx="775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．结合下面的句子，说说玄奘为什么能够成为很有学问的高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我立志去印度取经，就是死在路上也心甘情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9280" indent="-4492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玄奘忍着干渴，继续前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1155600" y="3551400"/>
            <a:ext cx="72374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首先他有去印度取经的决心和坚定的信念，其次他还有不畏艰难、坚持不懈的精神。这些都是他成为很有学问的高僧的重要原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7"/>
          <p:cNvSpPr/>
          <p:nvPr/>
        </p:nvSpPr>
        <p:spPr>
          <a:xfrm>
            <a:off x="820800" y="1116000"/>
            <a:ext cx="70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．读读认认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282680" y="1727280"/>
            <a:ext cx="7139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à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è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uà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uō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rè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èi    dà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ī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道   谢        劝     说        热  泪      到   达     经   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ǎ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à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ǎn    hē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uǐ    kuá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ēn    fó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īn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遇   险         冒    险       喝   水           狂    奔       佛   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ōnɡ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ú 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ǐ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én    kǒu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kě    fā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uá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终    于        死   神       口  渴      发   源   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7167"/>
          <p:cNvSpPr/>
          <p:nvPr/>
        </p:nvSpPr>
        <p:spPr>
          <a:xfrm>
            <a:off x="1209600" y="1963800"/>
            <a:ext cx="7666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、给加点字注音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　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玄奘去佛教发源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印度的路上，遇到一位老人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 　　 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劝，不要走沙漠冒险。可玄奘决心已定，谢过老人，骑着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　　　　　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(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老马离去。沙漠里没有水喝，他忍着干渴，历经千辛万苦，终于到达印度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9" name="矩形 1"/>
          <p:cNvSpPr/>
          <p:nvPr/>
        </p:nvSpPr>
        <p:spPr>
          <a:xfrm>
            <a:off x="2151000" y="318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19"/>
          <p:cNvSpPr/>
          <p:nvPr/>
        </p:nvSpPr>
        <p:spPr>
          <a:xfrm>
            <a:off x="2993760" y="3182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20"/>
          <p:cNvSpPr/>
          <p:nvPr/>
        </p:nvSpPr>
        <p:spPr>
          <a:xfrm>
            <a:off x="5800680" y="3197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21"/>
          <p:cNvSpPr/>
          <p:nvPr/>
        </p:nvSpPr>
        <p:spPr>
          <a:xfrm>
            <a:off x="1274760" y="4191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22"/>
          <p:cNvSpPr/>
          <p:nvPr/>
        </p:nvSpPr>
        <p:spPr>
          <a:xfrm>
            <a:off x="3174840" y="4181400"/>
            <a:ext cx="8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23"/>
          <p:cNvSpPr/>
          <p:nvPr/>
        </p:nvSpPr>
        <p:spPr>
          <a:xfrm>
            <a:off x="6329160" y="4194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24"/>
          <p:cNvSpPr/>
          <p:nvPr/>
        </p:nvSpPr>
        <p:spPr>
          <a:xfrm>
            <a:off x="4379760" y="5226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25"/>
          <p:cNvSpPr/>
          <p:nvPr/>
        </p:nvSpPr>
        <p:spPr>
          <a:xfrm>
            <a:off x="6076800" y="5205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26"/>
          <p:cNvSpPr/>
          <p:nvPr/>
        </p:nvSpPr>
        <p:spPr>
          <a:xfrm>
            <a:off x="6583320" y="5197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矩形 2"/>
          <p:cNvSpPr/>
          <p:nvPr/>
        </p:nvSpPr>
        <p:spPr>
          <a:xfrm>
            <a:off x="6513480" y="4589640"/>
            <a:ext cx="368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1973880" y="2612880"/>
            <a:ext cx="461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ó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2738880" y="2612880"/>
            <a:ext cx="87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uá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5"/>
          <p:cNvSpPr/>
          <p:nvPr/>
        </p:nvSpPr>
        <p:spPr>
          <a:xfrm>
            <a:off x="5609520" y="2612880"/>
            <a:ext cx="52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1141200" y="3591000"/>
            <a:ext cx="892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à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"/>
          <p:cNvSpPr/>
          <p:nvPr/>
        </p:nvSpPr>
        <p:spPr>
          <a:xfrm>
            <a:off x="2809800" y="3591000"/>
            <a:ext cx="1541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ào  xiǎ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6015960" y="3602160"/>
            <a:ext cx="59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xi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4123080" y="4621320"/>
            <a:ext cx="52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0"/>
          <p:cNvSpPr/>
          <p:nvPr/>
        </p:nvSpPr>
        <p:spPr>
          <a:xfrm>
            <a:off x="5610240" y="4621320"/>
            <a:ext cx="51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3"/>
          <p:cNvSpPr/>
          <p:nvPr/>
        </p:nvSpPr>
        <p:spPr>
          <a:xfrm>
            <a:off x="971640" y="14731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看拼音写字词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uàn                            sǐ                 rè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lè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á                 hē                             k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图片 1" descr=""/>
          <p:cNvPicPr/>
          <p:nvPr/>
        </p:nvPicPr>
        <p:blipFill>
          <a:blip r:embed="rId1"/>
          <a:stretch/>
        </p:blipFill>
        <p:spPr>
          <a:xfrm>
            <a:off x="5821200" y="2575080"/>
            <a:ext cx="1665360" cy="86328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2" descr=""/>
          <p:cNvPicPr/>
          <p:nvPr/>
        </p:nvPicPr>
        <p:blipFill>
          <a:blip r:embed="rId2"/>
          <a:stretch/>
        </p:blipFill>
        <p:spPr>
          <a:xfrm>
            <a:off x="1792440" y="2589120"/>
            <a:ext cx="907920" cy="9018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5" descr=""/>
          <p:cNvPicPr/>
          <p:nvPr/>
        </p:nvPicPr>
        <p:blipFill>
          <a:blip r:embed="rId3"/>
          <a:stretch/>
        </p:blipFill>
        <p:spPr>
          <a:xfrm>
            <a:off x="4351320" y="2610000"/>
            <a:ext cx="907920" cy="90144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7" descr=""/>
          <p:cNvPicPr/>
          <p:nvPr/>
        </p:nvPicPr>
        <p:blipFill>
          <a:blip r:embed="rId4"/>
          <a:stretch/>
        </p:blipFill>
        <p:spPr>
          <a:xfrm>
            <a:off x="2362320" y="4219560"/>
            <a:ext cx="907920" cy="9018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20" descr=""/>
          <p:cNvPicPr/>
          <p:nvPr/>
        </p:nvPicPr>
        <p:blipFill>
          <a:blip r:embed="rId5"/>
          <a:stretch/>
        </p:blipFill>
        <p:spPr>
          <a:xfrm>
            <a:off x="3884760" y="4219560"/>
            <a:ext cx="907920" cy="90180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21" descr=""/>
          <p:cNvPicPr/>
          <p:nvPr/>
        </p:nvPicPr>
        <p:blipFill>
          <a:blip r:embed="rId6"/>
          <a:stretch/>
        </p:blipFill>
        <p:spPr>
          <a:xfrm>
            <a:off x="6513480" y="4219560"/>
            <a:ext cx="907920" cy="901800"/>
          </a:xfrm>
          <a:prstGeom prst="rect">
            <a:avLst/>
          </a:prstGeom>
          <a:ln w="0">
            <a:noFill/>
          </a:ln>
        </p:spPr>
      </p:pic>
      <p:sp>
        <p:nvSpPr>
          <p:cNvPr id="194" name="矩形 4"/>
          <p:cNvSpPr/>
          <p:nvPr/>
        </p:nvSpPr>
        <p:spPr>
          <a:xfrm>
            <a:off x="6717600" y="4303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1971720" y="26956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6"/>
          <p:cNvSpPr/>
          <p:nvPr/>
        </p:nvSpPr>
        <p:spPr>
          <a:xfrm>
            <a:off x="4562280" y="26859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7"/>
          <p:cNvSpPr/>
          <p:nvPr/>
        </p:nvSpPr>
        <p:spPr>
          <a:xfrm>
            <a:off x="6063480" y="26528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热 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8"/>
          <p:cNvSpPr/>
          <p:nvPr/>
        </p:nvSpPr>
        <p:spPr>
          <a:xfrm>
            <a:off x="2573280" y="4316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9"/>
          <p:cNvSpPr/>
          <p:nvPr/>
        </p:nvSpPr>
        <p:spPr>
          <a:xfrm>
            <a:off x="4060800" y="43275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0"/>
          <p:cNvSpPr/>
          <p:nvPr/>
        </p:nvSpPr>
        <p:spPr>
          <a:xfrm>
            <a:off x="5937120" y="4303800"/>
            <a:ext cx="60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口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2791800" y="27208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2"/>
          <p:cNvSpPr/>
          <p:nvPr/>
        </p:nvSpPr>
        <p:spPr>
          <a:xfrm>
            <a:off x="3759120" y="2684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3"/>
          <p:cNvSpPr/>
          <p:nvPr/>
        </p:nvSpPr>
        <p:spPr>
          <a:xfrm>
            <a:off x="1770120" y="43164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4"/>
          <p:cNvSpPr/>
          <p:nvPr/>
        </p:nvSpPr>
        <p:spPr>
          <a:xfrm>
            <a:off x="4898880" y="43038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3"/>
          <p:cNvSpPr/>
          <p:nvPr/>
        </p:nvSpPr>
        <p:spPr>
          <a:xfrm>
            <a:off x="900000" y="17193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用“   ”圈出加点字的正确读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马儿在一望无际的大草原上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ē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è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跑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爷爷是从山西投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ē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bè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到这儿来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当获悉“北京申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2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冬奥会成功”这一喜讯时，正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ē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茶的爸爸禁不住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ē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椭圆 2"/>
          <p:cNvSpPr/>
          <p:nvPr/>
        </p:nvSpPr>
        <p:spPr>
          <a:xfrm>
            <a:off x="2284560" y="1903320"/>
            <a:ext cx="331560" cy="300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5"/>
          <p:cNvSpPr/>
          <p:nvPr/>
        </p:nvSpPr>
        <p:spPr>
          <a:xfrm>
            <a:off x="5207760" y="2470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29"/>
          <p:cNvSpPr/>
          <p:nvPr/>
        </p:nvSpPr>
        <p:spPr>
          <a:xfrm>
            <a:off x="3690720" y="3084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30"/>
          <p:cNvSpPr/>
          <p:nvPr/>
        </p:nvSpPr>
        <p:spPr>
          <a:xfrm>
            <a:off x="2536560" y="4138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31"/>
          <p:cNvSpPr/>
          <p:nvPr/>
        </p:nvSpPr>
        <p:spPr>
          <a:xfrm>
            <a:off x="6176880" y="4119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椭圆 32"/>
          <p:cNvSpPr/>
          <p:nvPr/>
        </p:nvSpPr>
        <p:spPr>
          <a:xfrm>
            <a:off x="5594400" y="2311560"/>
            <a:ext cx="474480" cy="537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椭圆 33"/>
          <p:cNvSpPr/>
          <p:nvPr/>
        </p:nvSpPr>
        <p:spPr>
          <a:xfrm>
            <a:off x="4803840" y="2876400"/>
            <a:ext cx="474480" cy="538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椭圆 34"/>
          <p:cNvSpPr/>
          <p:nvPr/>
        </p:nvSpPr>
        <p:spPr>
          <a:xfrm>
            <a:off x="2860560" y="4043520"/>
            <a:ext cx="474840" cy="53784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椭圆 35"/>
          <p:cNvSpPr/>
          <p:nvPr/>
        </p:nvSpPr>
        <p:spPr>
          <a:xfrm>
            <a:off x="7086600" y="4002120"/>
            <a:ext cx="474840" cy="5364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3"/>
          <p:cNvSpPr/>
          <p:nvPr/>
        </p:nvSpPr>
        <p:spPr>
          <a:xfrm>
            <a:off x="712800" y="1225440"/>
            <a:ext cx="756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句子加工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玄奘　大沙漠　骑上马　茫茫　进入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连词成句并加标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他一直坚持了四五天，最后渴得昏倒在地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用加点词写句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沙漠里真热呀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仿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呀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2"/>
          <p:cNvSpPr/>
          <p:nvPr/>
        </p:nvSpPr>
        <p:spPr>
          <a:xfrm>
            <a:off x="2365200" y="3657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4"/>
          <p:cNvSpPr/>
          <p:nvPr/>
        </p:nvSpPr>
        <p:spPr>
          <a:xfrm>
            <a:off x="1262160" y="2851200"/>
            <a:ext cx="7265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玄奘骑上马进入了茫茫大沙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天天坚持锻炼，身体才会越来越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7"/>
          <p:cNvSpPr/>
          <p:nvPr/>
        </p:nvSpPr>
        <p:spPr>
          <a:xfrm>
            <a:off x="2085480" y="5735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冰山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8"/>
          <p:cNvSpPr/>
          <p:nvPr/>
        </p:nvSpPr>
        <p:spPr>
          <a:xfrm>
            <a:off x="5320440" y="574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4" name="圆角矩形 4"/>
            <p:cNvSpPr/>
            <p:nvPr/>
          </p:nvSpPr>
          <p:spPr>
            <a:xfrm>
              <a:off x="600120" y="3876480"/>
              <a:ext cx="32076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读课文，说一说课文写了一件什么事。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圆角矩形 5"/>
            <p:cNvSpPr/>
            <p:nvPr/>
          </p:nvSpPr>
          <p:spPr>
            <a:xfrm>
              <a:off x="5224320" y="3889440"/>
              <a:ext cx="34560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用“</a:t>
              </a:r>
              <a:r>
                <a:rPr b="1" lang="en-US" sz="2200" spc="-1" strike="noStrike">
                  <a:solidFill>
                    <a:srgbClr val="000000"/>
                  </a:solidFill>
                  <a:latin typeface="宋体"/>
                </a:rPr>
                <a:t>___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”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画出老人的话，这句话写出了什么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6"/>
            <p:cNvSpPr/>
            <p:nvPr/>
          </p:nvSpPr>
          <p:spPr>
            <a:xfrm>
              <a:off x="5211720" y="5239080"/>
              <a:ext cx="3468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课文是采用哪两种写法来表现玄奘取经的困难的？这样写有什么好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7"/>
            <p:cNvSpPr/>
            <p:nvPr/>
          </p:nvSpPr>
          <p:spPr>
            <a:xfrm>
              <a:off x="600120" y="521424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玄奘在沙漠遇到了什么困难？是怎么解决的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79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矩形 1"/>
              <p:cNvSpPr/>
              <p:nvPr/>
            </p:nvSpPr>
            <p:spPr>
              <a:xfrm>
                <a:off x="2434320" y="1906920"/>
                <a:ext cx="3934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赞美玄奘是一个怎样的人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" name="矩形 2"/>
              <p:cNvSpPr/>
              <p:nvPr/>
            </p:nvSpPr>
            <p:spPr>
              <a:xfrm>
                <a:off x="4659120" y="1271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难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2"/>
          <p:cNvSpPr/>
          <p:nvPr/>
        </p:nvSpPr>
        <p:spPr>
          <a:xfrm>
            <a:off x="433440" y="998640"/>
            <a:ext cx="83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边境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ìng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要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ài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瓜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ōu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玄奘遇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到一位老人。老人听说玄奘要去印度，就劝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uàn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他说：“这条路太难走了，又是沙漠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ò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又是雪山，你可千万别拿生命冒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ào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险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ǎn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哪！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云形 1"/>
          <p:cNvGrpSpPr/>
          <p:nvPr/>
        </p:nvGrpSpPr>
        <p:grpSpPr>
          <a:xfrm>
            <a:off x="5157720" y="2798640"/>
            <a:ext cx="2462400" cy="987480"/>
            <a:chOff x="5157720" y="2798640"/>
            <a:chExt cx="2462400" cy="987480"/>
          </a:xfrm>
        </p:grpSpPr>
        <p:pic>
          <p:nvPicPr>
            <p:cNvPr id="84" name="云形 1" descr=""/>
            <p:cNvPicPr/>
            <p:nvPr/>
          </p:nvPicPr>
          <p:blipFill>
            <a:blip r:embed="rId1"/>
            <a:stretch/>
          </p:blipFill>
          <p:spPr>
            <a:xfrm>
              <a:off x="5157720" y="2798640"/>
              <a:ext cx="24624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855760" y="302724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间接描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矩形 6"/>
          <p:cNvSpPr/>
          <p:nvPr/>
        </p:nvSpPr>
        <p:spPr>
          <a:xfrm>
            <a:off x="801720" y="3978360"/>
            <a:ext cx="79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个“劝”字表现了老人的善良。老人的话一是直接说明了取经的艰难，二是间接表现了玄奘的态度坚决，意志坚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任意多边形 11"/>
          <p:cNvSpPr/>
          <p:nvPr/>
        </p:nvSpPr>
        <p:spPr>
          <a:xfrm>
            <a:off x="536400" y="3344760"/>
            <a:ext cx="7683840" cy="5590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noAutofit/>
          </a:bodyPr>
          <a:p>
            <a:pPr marL="343080" indent="-343080">
              <a:lnSpc>
                <a:spcPct val="90000"/>
              </a:lnSpc>
              <a:spcAft>
                <a:spcPts val="1049"/>
              </a:spcAft>
              <a:buClr>
                <a:srgbClr val="c00000"/>
              </a:buClr>
              <a:buFont typeface="Wingdings" charset="2"/>
              <a:buChar char=""/>
              <a:tabLst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品析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Users\Administrator\Desktop\可改图标 - 副本\品读释疑.png"/>
          <p:cNvPicPr/>
          <p:nvPr/>
        </p:nvPicPr>
        <p:blipFill>
          <a:blip r:embed="rId2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21"/>
          <p:cNvSpPr/>
          <p:nvPr/>
        </p:nvSpPr>
        <p:spPr>
          <a:xfrm>
            <a:off x="831960" y="963720"/>
            <a:ext cx="7569000" cy="111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理解间接描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23"/>
          <p:cNvSpPr/>
          <p:nvPr/>
        </p:nvSpPr>
        <p:spPr>
          <a:xfrm>
            <a:off x="903240" y="1846440"/>
            <a:ext cx="7346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什么是间接描写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文学创作中，作者通过刻画次要人物或环境来表现所要描写的对象，以使其鲜明突出，即间接地对对象进行描写刻画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间接描写有什么作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激发读者的想象力，使文章更加生动感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黑体"/>
                <a:ea typeface="黑体"/>
              </a:rPr>
              <a:t>运用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见本课“课后练习单”第二、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题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2"/>
          <p:cNvSpPr/>
          <p:nvPr/>
        </p:nvSpPr>
        <p:spPr>
          <a:xfrm>
            <a:off x="735120" y="15825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经过十几年的学习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í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他成了很有学问的高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组合 3"/>
          <p:cNvGrpSpPr/>
          <p:nvPr/>
        </p:nvGrpSpPr>
        <p:grpSpPr>
          <a:xfrm>
            <a:off x="873000" y="2558880"/>
            <a:ext cx="7683480" cy="559080"/>
            <a:chOff x="873000" y="2558880"/>
            <a:chExt cx="7683480" cy="559080"/>
          </a:xfrm>
        </p:grpSpPr>
        <p:sp>
          <p:nvSpPr>
            <p:cNvPr id="94" name="直接连接符 4"/>
            <p:cNvSpPr/>
            <p:nvPr/>
          </p:nvSpPr>
          <p:spPr>
            <a:xfrm>
              <a:off x="873000" y="311796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任意多边形 5"/>
            <p:cNvSpPr/>
            <p:nvPr/>
          </p:nvSpPr>
          <p:spPr>
            <a:xfrm>
              <a:off x="873000" y="2558880"/>
              <a:ext cx="7683480" cy="55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探究：玄奘是如何成为高僧的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矩形 1"/>
          <p:cNvSpPr/>
          <p:nvPr/>
        </p:nvSpPr>
        <p:spPr>
          <a:xfrm>
            <a:off x="885960" y="369108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畏艰难、坚持不懈的精神使他成为高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"/>
          <p:cNvSpPr/>
          <p:nvPr/>
        </p:nvSpPr>
        <p:spPr>
          <a:xfrm>
            <a:off x="885960" y="1827360"/>
            <a:ext cx="768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积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西游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的师徒是哪四个人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24" descr="花盆.png"/>
          <p:cNvPicPr/>
          <p:nvPr/>
        </p:nvPicPr>
        <p:blipFill>
          <a:blip r:embed="rId1"/>
          <a:stretch/>
        </p:blipFill>
        <p:spPr>
          <a:xfrm>
            <a:off x="642960" y="198108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99" name="矩形 2"/>
          <p:cNvSpPr/>
          <p:nvPr/>
        </p:nvSpPr>
        <p:spPr>
          <a:xfrm>
            <a:off x="982800" y="2917800"/>
            <a:ext cx="688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唐僧　孙悟空　猪八戒　沙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977760" y="3701880"/>
            <a:ext cx="7425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699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玄奘是一个具有不畏艰难、锲而不舍精神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961920" y="253044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赞美玄奘是一个怎样的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课文，说一说课文写了一件什么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1197000" y="320976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写了玄奘历尽艰险到佛教发源地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印度取经的故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2-09T14:44:13Z</dcterms:modified>
  <cp:revision>45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